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1.jpeg" ContentType="image/jpeg"/>
  <Override PartName="/ppt/media/image8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5.png" ContentType="image/png"/>
  <Override PartName="/ppt/media/image10.png" ContentType="image/png"/>
  <Override PartName="/ppt/media/image4.jpeg" ContentType="image/jpeg"/>
  <Override PartName="/ppt/media/image13.gif" ContentType="image/gif"/>
  <Override PartName="/ppt/media/image6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2A6D-BC05-41B0-8A21-B5B86CE977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6404-D3A5-41B4-AE30-BF2683EFDF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006-5B04-4CA2-A4EE-AB830334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48B-77F8-4CD1-9B90-17C5B86F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721-456E-419F-AB5E-8D973020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65E-246E-453A-8DD5-159293BC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7E28E-118B-48FC-B327-7742C57B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59F7C-A519-4598-9E33-634D6B93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4EC9A-394B-4BDF-8FE5-8E4E2291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91B3B-4060-481A-BF9E-45E7CFBE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2DEFC-B698-4A40-BAC3-27925328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7A53B-DBB0-46A6-B395-8C25BB65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D5DD2-6018-4DDC-9EDF-F7317B2C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547-273E-4A5C-968A-D5D4EE39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A3E0D-6C60-42A8-BA83-89C01B2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13B25-7E09-4162-BC00-7F96CBC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A2E05-BA75-4E99-A170-DC74A6D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E65D7-D6FF-446B-B3F4-9CC500E6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76691-34A7-4B28-ADDB-8ED89D69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6E39-FEA0-430C-8E0C-A3803C73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04A1-E2AF-4914-94A7-FE858513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713E0-1D17-415C-9EC3-868DDB72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C8C7-8871-44E4-B59E-C2C8955B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FA8F5-8C05-4F51-9524-227B0DC1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C67-0EA6-4389-AE00-69916189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C1364-4263-4683-86F9-E63D4301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2A989-5FDC-4E34-B13B-90A5C358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9D43A-B897-4030-8647-75EB57FD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D9D0-43C3-4E69-95A8-C53ECCD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2D3C-16D6-4782-8905-BB8F2F44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F537-3460-46A7-8C82-1A667A1B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FDA2-7608-4CEB-9218-907B69B5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D75D8-2611-4132-8E36-61E8FA6C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60B641-D7B9-4B58-B342-74004C3F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F085C5-4E9D-44D3-BA72-041BBDB1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E7E-25E5-4155-892B-03756EF6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1DF45-ED94-4DF4-9348-479393A6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4EB4A-4267-46D1-8F49-E153620B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C24E7-07FF-4839-918D-C3878630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41E2C6-5602-4894-8BD6-AAB14B99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61C2C-5C6F-40D8-8BAC-BEEFD7C2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CF60E9-F7B6-4347-B855-EED118E3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817EAF-CBAC-4C3F-B1FE-EF016CE3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9FF3A-9580-4F0B-B351-85F4484A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B6B5D3-24DF-441E-958F-3B22FBFF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645-BC49-44A1-AC2E-73247DB3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262-FA8F-4DB4-A0A6-2253424B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D1D-392E-4BC2-A300-B340EF1A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CF7-696C-4FA3-A893-654F2E5C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91C-1D5C-4875-85E0-EAD3B0F0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F11E-F933-49C0-BBE9-D1F7CECA71C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DD6E-E6C2-4F5D-AEDD-23F6D4681B8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8DBD-B40E-486D-9120-A86B9AF62C72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7290-61FB-4D3B-AA9D-4F3083DC31C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0040" y="52858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onstantia"/>
              </a:rPr>
              <a:t>Подготовила учитель математики                                               МОУ Алешковской средней школы                                                    Юрочкина О.В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420840" y="1279440"/>
            <a:ext cx="10399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6000" y="2039040"/>
            <a:ext cx="6923520" cy="2036880"/>
          </a:xfrm>
          <a:prstGeom prst="rect">
            <a:avLst/>
          </a:prstGeom>
          <a:solidFill>
            <a:srgbClr val="ffe7b7"/>
          </a:solidFill>
          <a:ln w="38160">
            <a:solidFill>
              <a:srgbClr val="663300"/>
            </a:solidFill>
            <a:round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1" descr=""/>
          <p:cNvPicPr/>
          <p:nvPr/>
        </p:nvPicPr>
        <p:blipFill>
          <a:blip r:embed="rId2"/>
          <a:stretch/>
        </p:blipFill>
        <p:spPr>
          <a:xfrm>
            <a:off x="262080" y="146160"/>
            <a:ext cx="8716680" cy="123804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7"/>
          <p:cNvSpPr/>
          <p:nvPr/>
        </p:nvSpPr>
        <p:spPr>
          <a:xfrm>
            <a:off x="1000080" y="2643120"/>
            <a:ext cx="10890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0,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2286000" y="264312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–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роцент –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4714920" y="250020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663300"/>
                </a:solidFill>
                <a:latin typeface="Times New Roman"/>
              </a:rPr>
              <a:t>1 %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285840" y="4500720"/>
            <a:ext cx="70009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роцент – 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pro centum (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еревод: на ст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183960"/>
            <a:ext cx="73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523520"/>
            <a:ext cx="757080" cy="13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,4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0,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6459120" y="1285920"/>
            <a:ext cx="1029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4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0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785960" y="1500120"/>
            <a:ext cx="4800600" cy="1219320"/>
          </a:xfrm>
          <a:custGeom>
            <a:avLst/>
            <a:gdLst>
              <a:gd name="textAreaLeft" fmla="*/ 839880 w 4800600"/>
              <a:gd name="textAreaRight" fmla="*/ 3480480 w 48006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5b5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143160" y="7858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Tahoma"/>
              </a:rPr>
              <a:t>·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0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71680" y="271476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сятич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роб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000760" y="271476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ц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362520" y="4786200"/>
            <a:ext cx="1000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,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0,1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151320" y="4714920"/>
            <a:ext cx="1114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20 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2,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 flipH="1" flipV="1">
            <a:off x="1284840" y="3429000"/>
            <a:ext cx="4876920" cy="1371600"/>
          </a:xfrm>
          <a:custGeom>
            <a:avLst/>
            <a:gdLst>
              <a:gd name="textAreaLeft" fmla="*/ 852840 w 4876920"/>
              <a:gd name="textAreaRight" fmla="*/ 3535560 w 4876920"/>
              <a:gd name="textAreaTop" fmla="*/ 183600 h 1371600"/>
              <a:gd name="textAreaBottom" fmla="*/ 11880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5b592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43160" y="52149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AutoShape 4" descr=""/>
          <p:cNvPicPr/>
          <p:nvPr/>
        </p:nvPicPr>
        <p:blipFill>
          <a:blip r:embed="rId2"/>
          <a:stretch/>
        </p:blipFill>
        <p:spPr>
          <a:xfrm>
            <a:off x="2620800" y="334800"/>
            <a:ext cx="4687920" cy="555840"/>
          </a:xfrm>
          <a:prstGeom prst="rect">
            <a:avLst/>
          </a:prstGeom>
          <a:ln w="0">
            <a:noFill/>
          </a:ln>
        </p:spPr>
      </p:pic>
      <p:sp>
        <p:nvSpPr>
          <p:cNvPr id="197" name="WordArt 4"/>
          <p:cNvSpPr/>
          <p:nvPr/>
        </p:nvSpPr>
        <p:spPr>
          <a:xfrm>
            <a:off x="428760" y="1357200"/>
            <a:ext cx="8715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1214280" y="357120"/>
            <a:ext cx="12700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901"/>
                </a:solidFill>
                <a:latin typeface="Times New Roman"/>
              </a:rPr>
              <a:t>У 8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6000840" y="1197000"/>
            <a:ext cx="71280" cy="566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50920" y="119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901"/>
                </a:solidFill>
                <a:latin typeface="Times New Roman"/>
              </a:rPr>
              <a:t>Что принято за 100%?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928960" y="114300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901"/>
                </a:solidFill>
                <a:latin typeface="Times New Roman"/>
              </a:rPr>
              <a:t>Известна ли эта величи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035760" y="1071720"/>
            <a:ext cx="31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901"/>
                </a:solidFill>
                <a:latin typeface="Times New Roman"/>
              </a:rPr>
              <a:t>Известна ли величина, которая приходится на 1%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0" y="17859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142920" y="18572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-во всех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643200" y="1857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6572160" y="1857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071880" y="2214720"/>
            <a:ext cx="29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00 = 3500 (м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6227640" y="22860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 % - 35 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3143160" y="25002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: 3500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9"/>
          <p:cNvSpPr/>
          <p:nvPr/>
        </p:nvSpPr>
        <p:spPr>
          <a:xfrm>
            <a:off x="0" y="30002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214200" y="314316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-во всех учеников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3714840" y="3071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6572160" y="307188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3143160" y="3500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00 учен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6227640" y="3500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00 : 100 = 7 (уч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1"/>
          <p:cNvSpPr/>
          <p:nvPr/>
        </p:nvSpPr>
        <p:spPr>
          <a:xfrm>
            <a:off x="6119640" y="40514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: 7 уче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5"/>
          <p:cNvSpPr/>
          <p:nvPr/>
        </p:nvSpPr>
        <p:spPr>
          <a:xfrm>
            <a:off x="34920" y="4508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5">
            <a:hlinkClick r:id="rId2" action="ppaction://hlinksldjump"/>
          </p:cNvPr>
          <p:cNvSpPr/>
          <p:nvPr/>
        </p:nvSpPr>
        <p:spPr>
          <a:xfrm>
            <a:off x="285840" y="1285920"/>
            <a:ext cx="86439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AutoShape 30" descr=""/>
          <p:cNvPicPr/>
          <p:nvPr/>
        </p:nvPicPr>
        <p:blipFill>
          <a:blip r:embed="rId3"/>
          <a:stretch/>
        </p:blipFill>
        <p:spPr>
          <a:xfrm>
            <a:off x="3621240" y="189000"/>
            <a:ext cx="4846320" cy="5601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9"/>
          <p:cNvSpPr/>
          <p:nvPr/>
        </p:nvSpPr>
        <p:spPr>
          <a:xfrm>
            <a:off x="1571760" y="214200"/>
            <a:ext cx="19238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3a4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У 874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Constantia"/>
              </a:rPr>
              <a:t>–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87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2143080" y="1214280"/>
            <a:ext cx="0" cy="522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4429080" y="1285920"/>
            <a:ext cx="0" cy="53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1"/>
          <p:cNvSpPr/>
          <p:nvPr/>
        </p:nvSpPr>
        <p:spPr>
          <a:xfrm>
            <a:off x="6572160" y="1143000"/>
            <a:ext cx="0" cy="53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00040" y="1428840"/>
            <a:ext cx="17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принято за 100%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214720" y="14288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вестна ли эта величи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429080" y="13572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вестна ли величина, которая приходится на 1%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643800" y="135720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Что надо найти % от числа или числ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о его %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0" y="2457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357120" y="257184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-во всех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786040" y="27860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4857840" y="28576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6572160" y="257184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 по его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6012000" y="3073320"/>
            <a:ext cx="32414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1) 180 : 6 = 30 (м.) – 1 %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12000" y="3503520"/>
            <a:ext cx="324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44e6d"/>
                </a:solidFill>
                <a:latin typeface="Arial"/>
              </a:rPr>
              <a:t>2) 30  · 100 = 3000 (м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6"/>
          <p:cNvSpPr/>
          <p:nvPr/>
        </p:nvSpPr>
        <p:spPr>
          <a:xfrm>
            <a:off x="5904000" y="3857760"/>
            <a:ext cx="3240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Ответ: 3000 мар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8"/>
          <p:cNvSpPr/>
          <p:nvPr/>
        </p:nvSpPr>
        <p:spPr>
          <a:xfrm>
            <a:off x="0" y="42861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214200" y="478620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-во всех уче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2700360" y="47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2770200" y="53323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50 у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4786200" y="4643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6877080" y="46576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% от чис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5435640" y="5286240"/>
            <a:ext cx="3708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1) 750 : 100 = 7,5 (уч.) – 1 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5"/>
          <p:cNvSpPr/>
          <p:nvPr/>
        </p:nvSpPr>
        <p:spPr>
          <a:xfrm>
            <a:off x="5435640" y="5715000"/>
            <a:ext cx="3708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2) 7,5 </a:t>
            </a: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·</a:t>
            </a: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 6 = 45 (уч).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5435640" y="6143760"/>
            <a:ext cx="3708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Times New Roman"/>
              </a:rPr>
              <a:t>Ответ: 45 ученик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714240" y="1428840"/>
            <a:ext cx="4071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75a3"/>
                </a:solidFill>
                <a:latin typeface="Constantia"/>
              </a:rPr>
              <a:t>Разделить число на 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75a3"/>
                </a:solidFill>
                <a:latin typeface="Constantia"/>
              </a:rPr>
              <a:t>Умножить на количество 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4857840" y="142884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75a3"/>
                </a:solidFill>
                <a:latin typeface="Constantia"/>
              </a:rPr>
              <a:t>Выразить % десятичной дроб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75a3"/>
                </a:solidFill>
                <a:latin typeface="Constantia"/>
              </a:rPr>
              <a:t>Найти дробь от чис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500200" y="2714760"/>
            <a:ext cx="386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Найти 7% от 400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71680" y="3286080"/>
          <a:ext cx="7162560" cy="2209680"/>
        </p:xfrm>
        <a:graphic>
          <a:graphicData uri="http://schemas.openxmlformats.org/drawingml/2006/table">
            <a:tbl>
              <a:tblPr/>
              <a:tblGrid>
                <a:gridCol w="3773160"/>
                <a:gridCol w="338940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efac9"/>
                        </a:buClr>
                        <a:buSzPct val="75000"/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:100=4 кг – 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efac9"/>
                        </a:buClr>
                        <a:buSzPct val="75000"/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= 28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 – 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л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: 1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= 28 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efac9"/>
                        </a:buClr>
                        <a:buSzPct val="75000"/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 = 0,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efac9"/>
                        </a:buClr>
                        <a:buSzPct val="75000"/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7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= 28 к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 Box 45"/>
          <p:cNvSpPr/>
          <p:nvPr/>
        </p:nvSpPr>
        <p:spPr>
          <a:xfrm>
            <a:off x="1433160" y="5715000"/>
            <a:ext cx="44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Ответ: 7% от 400 кг составляют 28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2"/>
          <a:stretch/>
        </p:blipFill>
        <p:spPr>
          <a:xfrm>
            <a:off x="1352520" y="152280"/>
            <a:ext cx="7340760" cy="1352520"/>
          </a:xfrm>
          <a:prstGeom prst="rect">
            <a:avLst/>
          </a:prstGeom>
          <a:ln w="0">
            <a:noFill/>
          </a:ln>
        </p:spPr>
      </p:pic>
      <p:cxnSp>
        <p:nvCxnSpPr>
          <p:cNvPr id="252" name="Прямая со стрелкой 8"/>
          <p:cNvCxnSpPr/>
          <p:nvPr/>
        </p:nvCxnSpPr>
        <p:spPr>
          <a:xfrm flipH="1">
            <a:off x="2642760" y="1071720"/>
            <a:ext cx="929520" cy="714960"/>
          </a:xfrm>
          <a:prstGeom prst="straightConnector1">
            <a:avLst/>
          </a:prstGeom>
          <a:ln w="38160">
            <a:solidFill>
              <a:srgbClr val="4e75a3"/>
            </a:solidFill>
            <a:miter/>
            <a:tailEnd len="med" type="arrow" w="med"/>
          </a:ln>
        </p:spPr>
      </p:cxnSp>
      <p:cxnSp>
        <p:nvCxnSpPr>
          <p:cNvPr id="253" name="Прямая со стрелкой 10"/>
          <p:cNvCxnSpPr/>
          <p:nvPr/>
        </p:nvCxnSpPr>
        <p:spPr>
          <a:xfrm>
            <a:off x="5143680" y="999720"/>
            <a:ext cx="1000800" cy="857880"/>
          </a:xfrm>
          <a:prstGeom prst="straightConnector1">
            <a:avLst/>
          </a:prstGeom>
          <a:ln w="38160">
            <a:solidFill>
              <a:srgbClr val="4e75a3"/>
            </a:solidFill>
            <a:miter/>
            <a:tailEnd len="med" type="arrow" w="med"/>
          </a:ln>
        </p:spPr>
      </p:cxnSp>
      <p:sp>
        <p:nvSpPr>
          <p:cNvPr id="254" name=""/>
          <p:cNvSpPr txBox="1"/>
          <p:nvPr/>
        </p:nvSpPr>
        <p:spPr>
          <a:xfrm>
            <a:off x="480600" y="2052000"/>
            <a:ext cx="3681720" cy="3610440"/>
          </a:xfrm>
          <a:prstGeom prst="rect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7e0e"/>
                </a:solidFill>
                <a:latin typeface="Constantia"/>
              </a:rPr>
              <a:t>Число разделить на его 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7e0e"/>
                </a:solidFill>
                <a:latin typeface="Constantia"/>
              </a:rPr>
              <a:t>Полученное число умножить на 100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Скругленный прямоугольник 12"/>
          <p:cNvSpPr/>
          <p:nvPr/>
        </p:nvSpPr>
        <p:spPr>
          <a:xfrm>
            <a:off x="4714920" y="1928880"/>
            <a:ext cx="4000320" cy="3929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dd7e0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7e0e"/>
                </a:solidFill>
                <a:latin typeface="Constantia"/>
              </a:rPr>
              <a:t>Заменить % десятичной дроб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7e0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d7e0e"/>
                </a:solidFill>
                <a:latin typeface="Constantia"/>
              </a:rPr>
              <a:t>Разделить число на полученную десятичную дроб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0" y="2500200"/>
            <a:ext cx="3929040" cy="1357560"/>
          </a:xfrm>
          <a:prstGeom prst="rect">
            <a:avLst/>
          </a:prstGeom>
          <a:solidFill>
            <a:srgbClr val="dfcf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Cambria Math"/>
                <a:ea typeface="Cambria Math"/>
              </a:rPr>
              <a:t>30:5=6- это 1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Cambria Math"/>
                <a:ea typeface="Cambria Math"/>
              </a:rPr>
              <a:t>6·100=6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Rectangle 2" descr=""/>
          <p:cNvPicPr/>
          <p:nvPr/>
        </p:nvPicPr>
        <p:blipFill>
          <a:blip r:embed="rId2"/>
          <a:stretch/>
        </p:blipFill>
        <p:spPr>
          <a:xfrm>
            <a:off x="878040" y="480960"/>
            <a:ext cx="8716680" cy="21700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387360" y="5000760"/>
            <a:ext cx="73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твет : 600 задуманное числ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4"/>
          <p:cNvSpPr/>
          <p:nvPr/>
        </p:nvSpPr>
        <p:spPr>
          <a:xfrm>
            <a:off x="4572000" y="2500200"/>
            <a:ext cx="4572000" cy="1312920"/>
          </a:xfrm>
          <a:prstGeom prst="rect">
            <a:avLst/>
          </a:prstGeom>
          <a:solidFill>
            <a:srgbClr val="b793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Cambria Math"/>
                <a:ea typeface="Cambria Math"/>
              </a:rPr>
              <a:t>5%=0,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Cambria Math"/>
                <a:ea typeface="Cambria Math"/>
              </a:rPr>
              <a:t>30:0,05= 60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14" descr="arg-0-50-trans.gif"/>
          <p:cNvPicPr/>
          <p:nvPr/>
        </p:nvPicPr>
        <p:blipFill>
          <a:blip r:embed="rId2"/>
          <a:stretch/>
        </p:blipFill>
        <p:spPr>
          <a:xfrm>
            <a:off x="214200" y="3857760"/>
            <a:ext cx="1236600" cy="14284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16" descr="arg-2-50-trans.gif"/>
          <p:cNvPicPr/>
          <p:nvPr/>
        </p:nvPicPr>
        <p:blipFill>
          <a:blip r:embed="rId3"/>
          <a:stretch/>
        </p:blipFill>
        <p:spPr>
          <a:xfrm rot="21219000">
            <a:off x="6000480" y="3143160"/>
            <a:ext cx="1714320" cy="13575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7" descr="arg-3-50-trans.gif"/>
          <p:cNvPicPr/>
          <p:nvPr/>
        </p:nvPicPr>
        <p:blipFill>
          <a:blip r:embed="rId4"/>
          <a:stretch/>
        </p:blipFill>
        <p:spPr>
          <a:xfrm rot="21301800">
            <a:off x="4000680" y="478584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18" descr="arg-4-50-trans.gif"/>
          <p:cNvPicPr/>
          <p:nvPr/>
        </p:nvPicPr>
        <p:blipFill>
          <a:blip r:embed="rId5"/>
          <a:stretch/>
        </p:blipFill>
        <p:spPr>
          <a:xfrm>
            <a:off x="3643200" y="214200"/>
            <a:ext cx="2479680" cy="1609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9" descr="arg-8-50-trans.gif"/>
          <p:cNvPicPr/>
          <p:nvPr/>
        </p:nvPicPr>
        <p:blipFill>
          <a:blip r:embed="rId6"/>
          <a:stretch/>
        </p:blipFill>
        <p:spPr>
          <a:xfrm>
            <a:off x="1143000" y="1500120"/>
            <a:ext cx="1727280" cy="16192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20" descr="arg-5-50-trans.gif"/>
          <p:cNvPicPr/>
          <p:nvPr/>
        </p:nvPicPr>
        <p:blipFill>
          <a:blip r:embed="rId7"/>
          <a:stretch/>
        </p:blipFill>
        <p:spPr>
          <a:xfrm>
            <a:off x="3571920" y="2643120"/>
            <a:ext cx="15001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3T17:20:14Z</dcterms:created>
  <dc:creator>Иринка</dc:creator>
  <dc:description/>
  <dc:language>en-US</dc:language>
  <cp:lastModifiedBy>Юрочкины</cp:lastModifiedBy>
  <dcterms:modified xsi:type="dcterms:W3CDTF">2009-11-09T18:57:32Z</dcterms:modified>
  <cp:revision>20</cp:revision>
  <dc:subject/>
  <dc:title>Слайд 1</dc:title>
</cp:coreProperties>
</file>